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963C-4627-4A70-AC7A-D5D80B30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2DC-3562-4C52-A3E3-847B8C35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938BA-08AF-48CD-9207-512A39D3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0867F-A5CE-48F4-89DB-C993FE26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A7707-4139-462D-BE15-8BA096D9C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A8EFC7-EDAE-4815-9391-6D7C2463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74ECF-F805-4B8D-8119-8F5D72E0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CCB35-D79A-4113-A98B-BDD502D0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1A46B-2AAA-4CD4-BB2F-6915F81B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73175-8B03-4632-9E31-AA26AD43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E8D24-FECA-4F15-AD3A-F05F96AB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70288-718C-4FC5-B966-87D13DF3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0DEB-ACC1-4BB1-8E1A-75BD57EB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8D905-5A13-4C09-A567-5B659EF6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1A940-2B8D-439A-B1BB-0B1E3BFC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32AB7-D8F0-4EB6-9EAC-2DBBF313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45195-1992-46F1-9CEE-E4B54151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725F0-042F-4CBF-AB48-68C09439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11AFE-E932-4C0B-B42D-47F5BB61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C2454-E2F3-4B3B-99C0-5AF26D6C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274DC-2343-4A60-9D0B-187F9C2F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E36DC8-5E58-44A5-940E-0A53F790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66DBCD-BC23-44CD-82B6-F857E5BD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4352-ECBC-4099-B5EC-CD514720B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0CDBC-6A48-4DE8-AEF2-82920800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24FDD1-282E-4B96-BA4B-6DFDF1A7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70E6B-050B-420D-A989-C0A19389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E11BF-C367-4E57-941B-8BA6B06E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D2CA8-D111-476E-A7B6-2C295B3B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7127E-A346-4043-96B6-FEE659C8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623B6-216C-4AA4-BFC1-789DF895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110F3-A443-4638-AEFF-1FA76602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255F2-374C-4BB8-AEF5-13D6DA5A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12D22-8E55-44A9-9ABC-B04363A3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806A-EC8A-4FBD-BDCA-02855DA1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89DFE-4BAD-42C9-A5BD-76A30F7A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B04BF7-30CC-4264-A671-A12C32E1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0B4C5-16F6-48B2-88CC-E5913315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C6516-DE92-481B-9586-4A56A66E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F3AF3-B441-41B3-9A48-814CF436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DD3893-100E-401C-9409-D94C6261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ED549-F914-44DB-8304-CB163DF0B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D6146-1E50-4CBD-96CA-1B597AEA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6B842-C5E8-4C22-94B0-CBB6A631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41BD5-C530-41A5-BA6E-A9DE6B71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03A68-D3AA-4E65-A1CF-C3862143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91509-D46A-4B84-B8DE-864EB640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57355C-B5BB-4024-8147-7723B18C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3A5B10-C8DF-4175-B099-AF2B7365E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088A4-C538-44F7-A19C-BB4A5AD9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B3956-DF40-4656-9819-E9B7569D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DDC56F-CA43-48E7-AD83-7CB875B6F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ABB61-6DF2-4CEE-A1A3-9C686BDF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B3581C-54AE-45A8-9635-BD50692D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12D97B-7DCF-4C7C-A139-71C0EEC9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3B2559-41B3-4259-A54E-32BAA91B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62F0A-7733-42EA-9084-9CF7E8F6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A3B30C-6ED5-4F09-830C-83F1AADE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7E070-3B8C-4D34-A296-DF21C340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448BCB-7838-4CB2-ADB2-95F49781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1AB1DB-F4CF-41D6-A1F6-A4430BD4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593682-84C1-4B8C-933F-969DD04B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E300A1-B170-454B-BD8E-C79FBB27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410628-0988-44E1-9004-40942B9F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5AD692-84C5-485C-BE59-E6A57F52E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776BE3-8B0C-4398-94AC-AFAB5A92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F2D52B-82B5-4E99-9BFC-9FD7406B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2E391-A57A-4B1B-85F0-F8407BE4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4B8021-3A07-4EE5-B473-1652A00F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11E3B0-955B-49A1-8463-B72A5EFE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E7CB41-4F82-41B7-9944-E1655CCA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94C2A0-B536-455C-BFD5-0AC94A86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640FAE-6F73-45ED-814D-7D6E65DA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86034E-2B18-4C10-BC4E-2CDBA506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A4B50A-BC93-4522-9B8A-F312C240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114AF7-749B-4FC1-B932-8235EDDF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6B785-B717-477E-9A83-09CAE34A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4F56D-7C43-42FC-A8B1-92F0AE1E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9C29-C5F4-46C0-B8FA-FE677238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8C834C-7CB0-4CE7-BADE-84249CF8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9F9EF4-632D-414E-82D7-6EECB1E3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231C30-1D09-4A7A-A10E-CE7C7107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7F613B-D055-4796-9A94-D126B612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7B70BE-B4E8-48D6-B595-26BFBD2C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675C50-2A37-4F17-A3C9-9C3351E0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015FFC-C3E4-40AB-9C55-86D7B22F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1301BA-0155-47B0-BE1A-40CE7F40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00E237-C001-4D9F-817E-12602B7D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185C7A-06CE-4C73-B9A0-63C6A473E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C8A36-646D-4954-827C-78D9D02E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D2409A-9F99-480A-8DB0-32F287A4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1DF537-6A15-459D-A5CD-08A1A70B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30F407-1717-4DD0-BE54-B22961D4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99A6C4-63D1-4FAB-A9EE-DD246916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A9FA63-F6F9-4C1F-888A-9DB0A00D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121C8B-C6B0-42A2-9270-A4DC4D2E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7E865B-79D0-4396-998F-1E27FDC4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29E3DD-B837-41CC-9681-FA510753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3CACD4-192F-42DF-A43A-EF2AAD7C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0D3955-0C54-4F6F-AA0C-6F412241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C001-4991-4555-9E66-65066214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B9D93E-BFC1-416F-9891-4D1B0D46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3269B5-83E2-432C-924F-39F08B00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41BD8B-8EF5-4AC0-B59C-CEC0FD6B5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2ED89F-1D73-48F4-96FB-BBEE0CA4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928450-A633-4CA4-BAB9-555FEDDF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2F99F2-E0B8-4D85-89F2-407A0096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27BC96-93CB-4DC2-8573-5A5B64CE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C5D08B-8A2F-43D3-A6A8-1E11F755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753B36-2727-4A78-A85B-015FE7372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FFFB79-D659-46A3-B006-4E8A88B6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D90D-FF43-469A-9713-8A9DD13E4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E8F4-2ED3-48D1-8B4E-BDFDFBA7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C6D0E2-E5F3-4C4E-BB9E-23E9A8F4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97AE4A-01E0-4CEC-B6FC-C0AEFDE94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185784-4B91-41F9-8A2A-9F4BD3B5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8A8C9B-A50F-4492-911B-55DC02A4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64F323-97B4-40FA-A60A-D97C7239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FD0D6F-B3F2-447C-BC79-31AC7640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428F0D-1B8B-49DB-AA8C-8C18EFD19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955C04-8066-4045-A0D3-2C5987D5D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3277FF-C75F-44A9-AD83-A00A6F46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545065-8548-4D72-8E38-9656A46E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AE223-7BEE-4EA2-8FA1-CB305321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589AAA-EBF1-4CE7-B961-68196CC1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D0DB40-7E90-40CC-A5A0-8B49CDF0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A8BB42-3676-4A14-B87C-C0A5226E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E74362-B273-48BE-A647-E8991687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044DA4-4998-421F-A7B9-2F86ACC8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4C13F0-D28E-48EE-A148-08AA4F21C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C41A87-51E9-4269-A788-8BA19475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CECD2B-B452-4527-A984-C9A5AEA4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2E2F94-7A69-401A-9B8A-6B1665F6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C3CC56-BCF0-413B-B41A-6CAF27FD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3CEE-8AFC-45F7-B76D-63756FE4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A75AF8-16D1-4B51-87F2-939ADAD9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965E5F-EDB4-4307-9684-9EA495AB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1958FB-D6C0-4429-8744-3B0759BB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6E3167-B324-4649-A340-167A2DF7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F6CDD9-5D6B-4D66-BBF4-3B26DA84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2955FF-8ACB-4A97-AD69-9F9C45BA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5BF14C-0660-478A-BDD3-4915E5EE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1B07C4-4AAE-4764-924E-19821B7EA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3E6A9E-113D-4B79-8BAF-E73D32793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3A9E76-C5D9-4C20-8192-DB176CD1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A85B-EB8C-4424-B2A8-693F7A2C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715E60-F999-42C6-8986-C2F31178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E6CBB8-059C-4914-9D44-BCF4982B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28D948-0EE6-4760-9F72-23A1CD7B0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AE3A5B-7EE4-4288-BF70-A5B8A7CD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DCA9CB-FEB3-47B4-BC1A-BEA27F040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1048B1-4932-42EC-8366-9EBB2C3E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6D2DBE-0D03-4F0A-BA76-D21C8A8A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E5796D-4C50-4461-BA4D-CD10F867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FD03FE-5F86-4409-ABCA-97790747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2D31F5-877C-4142-A52D-072390EA2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7455-008B-4C93-B560-6C7EF9AC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F9AF6A-FA82-4AD4-8C8F-530B63BA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CD3970-D714-4EE7-A124-C3ECEE7A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BE6B74-BFC9-4B41-9AF3-382FCF25F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53B342-0EF5-42F7-BA3A-BD04EF3A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8FD306-E378-4ADE-83AD-69FD16EDE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1EB819-E8D7-4D0A-A2E8-4823E95D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7A828C-A70A-46F8-B5F4-BE00360E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380AD5-7D87-40E1-B45A-27076636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63F6E1-AF4D-4C92-87D5-DC4A048A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F6B504-CD0C-4869-91BA-7D2378FB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5943F-3B7C-42FE-8A02-8D798FF0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8391CB-8DA0-415D-9DAF-063F86A3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EC5235-B739-48B5-BDDF-46871B55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6E0BE2-C8C7-4EAA-AF55-8A6B22BC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CC0F63-6658-4107-B3A0-52727FB9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7C3DBD-7622-4F1E-8199-F7F14E4C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0C436A-B20F-4974-A25C-3C7D8E1E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C63FB0-72E7-4198-B06C-299A1D88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FC8EFB-2BDF-45F4-832C-BD5C9772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5AD2D5-3A6A-41C2-B3EB-E94E3518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865225-BA91-4077-A44A-2575CECB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7050A-1F0F-4952-83BE-167FA2BB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B8EFDE-F5B4-43C5-9DE6-A351813C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0352F1-8B6F-4127-BDE4-18238257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4BC963-B513-4D93-8EDB-3C6D0F80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051445-4F5F-4ADC-923E-6B30E5CD9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FCFA6B-760C-40ED-B165-A9AE0FEB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8DF73D-D0E2-47B4-B9A8-67F966F7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7979F6-2A62-4F53-901A-D8F6850D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292726-7DCD-4769-B56B-77D8F250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239071-193B-46D2-A77E-2AA91787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841E62-04B5-48D3-9EAD-6EDFCDAA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3FED9-00B9-4778-A09F-39BB8A7C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6F05BD-E232-4265-8978-D09CFB10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1537E4-1F8B-48A2-A93C-61766EB0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CB24CA-671A-4D65-B223-288F5098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6AAE47-796F-4BAB-9AC7-4E96C040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5BFF6B-BEB9-4690-9C9F-36DAB4F9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61FA69-EE7E-4C9C-BCC8-17BDEBD3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A60CAC-B46A-45CA-9B4E-82C34937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9265B-3B8B-4849-9D29-D20006C5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37F9F-0085-497D-A1E6-615FED1A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F654-7D69-4BD3-9A72-37DF5167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B174C-C912-4950-B321-92A85FB2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5815D-67B5-483A-89A5-9514C6DE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5ED93-83C4-4501-B20B-54047D84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DCA2A-378D-49BB-B2D5-5BBBB606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2B4EF-3A56-4B29-B723-E934E521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C12B0-24A2-47BB-ADE2-831D6C807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E930F-E3C7-4BD0-AD7E-486C2609C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2A2BD-5669-46A8-8246-3DDD36D5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98B64-7A7A-4DE9-B573-BE0609B6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5A7E9-9568-4876-94A8-F716EB13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F7C2-4503-4CCC-B2FC-EF8347D2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64CA5-52B6-4131-9778-B48FB8E4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5BCDF-62FB-4CA9-8B25-DD632501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D4372-A633-4FB1-ACC0-9D950BFA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299FE-7118-4294-B363-46A3A1CA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DC3CB-DDBE-43A1-AAF1-7666F1DE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2D536-24E8-4734-90CD-A08536B9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CF880-1DC4-4EF3-A854-6BE34031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C94AF-A682-438D-B266-2BFABFAEB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EABCE-6655-4F0E-83E4-6160BAE6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A8766-9266-4115-B154-F37B5885F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4CE2-9EE9-4A07-9055-9AF4A330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A383D-D347-4DC2-B8B4-87495E8A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9EFC8-07D5-49D4-B764-A69D1AC2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0516A-C504-400B-BE84-98531AF5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75EEA-ADBD-4DD8-98BF-650ADE34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31328-F1C4-4398-98C0-1463ECA3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A4374-EAF1-4DF8-8F35-F5CFFC7D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8914A-B98A-4706-9474-364A536BB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1744F-B69F-42FC-BBF4-D7143A55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38606-E4CA-4069-AC25-71FAB81F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F6233-AE64-44AD-A951-94879256F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DD9E-047B-4DBE-9673-7F3A72BF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825EE-63C6-47DE-B656-699819CD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77EF3-B7FD-4DE7-B0BD-E987812B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7D703-BE30-43C4-8192-58348ACB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13CD1-14CB-4E4F-BC40-3D3B260F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62DEB-2B74-4EA4-BD3D-276FDC38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BB52C-A404-4364-BC8A-A97CF3C6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48398-9D10-4A16-A45E-951F75A06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525BE-4853-407D-ABCA-3928548D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9F5DD-EE5D-44CB-A002-B6180248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E7BB5-F6EA-4EF6-BEE9-7C804A78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BDD2-FC6E-40F8-9880-EE04EC68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E0B29E-9EB1-42A2-A0A4-E4C33DBA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34A91-3DBD-41C0-9172-58C904B82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16A98-35B1-4411-8AAF-59B05EEA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F7095-91C5-423E-9FC5-E8B20588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DA098-D844-4492-AEC1-1D602D86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513AE-CDB8-4A07-A308-6674EA34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4BD1D-30CF-4035-A459-B658AD5F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B21F3-9274-46D5-8B8A-E9E4744E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D0586-EB3E-4BA7-B1EB-69F09CD3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5A667-DD29-4E73-B404-042C6FEC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B7CF-72D5-4644-94B9-9FAA9209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2D6DF9-0CCF-470C-BDB3-8E62D330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1666B-9706-469E-A6BC-C29FBDE1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8A675-9798-49F4-AFF5-A348FC9F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01D46-7177-4BDD-AC10-C8826925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E554D-AE7D-47D1-93D8-F2A7FE3F6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B5E53-63DC-4CD2-B9DE-CF170E78A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8DDB0-8E9E-4A0E-BEEC-F069F0DB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6A635-9B1B-4AA5-AA84-F7F220E0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94E41-B6AC-4A20-BBEF-748C0766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60900-3B8A-450A-A86A-17A6655E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8338-091B-4854-8FD1-EF9F112C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25606-9E0A-466F-838B-C6643A9B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5DCCC-6093-414B-B1D2-64135BFE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AA11F-3122-402F-9BA4-E63A013B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AC232-9208-475C-BCB7-93E5A598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36663B-4B85-4DBE-B7E0-57ADF580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48D79-DFD7-46B2-B5B2-297FEB3C3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63DAB8-9BE8-4E55-A8A4-87283621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855F0-E9B0-48B9-BD08-3BAD237F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56707-249D-4AE4-89BA-63269C06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3C09E-89FD-4AA5-826F-FF70D6BD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3558-7E14-4BF6-9A25-228CB5450A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A9DB-1739-42F3-AD8F-4D44763C3A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27EF-BF05-43F3-B3AE-1A7EF4AE07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8180-F35D-43E4-93CC-9E19783CB9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B1D0-F994-4BC1-94C4-25040FD0BC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D090-19FD-48FC-A3F7-EB840037E8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55E2-1EFA-47EF-9C7B-A31AFADAE2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26E5-233A-4BB0-B178-348D935F01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36C8-B3D3-4CB7-812E-A7D8E16AD9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05B8-20CA-4CF9-928E-BFA5160D80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743D-5999-461F-9797-F3C7E45350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7D5DD-F45B-4D91-B673-AD99BBDF73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A0A6-B00C-436A-A158-65EEFA45AA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1FDC-83FD-4CD9-BC17-D84046F102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F4AE-CCB7-4C00-82C7-D4115434C1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2ACE-7B77-4C43-AF5E-2E67307F3F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D511-ED70-4FC1-ACAE-345079E32C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60F7-EE1B-4F52-A757-A3D7453127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6543-B264-456B-9B37-CA8A8ECD51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9D98-56E1-4FA0-98C5-E4BE659C7E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9F75-2ECB-4DD6-A438-103A1969FE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E6EC-D024-4E9A-AD2F-C1CE5D2034D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E03F-BBD3-437F-AE6F-55CA00502F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E643-3E22-4813-956D-955C05C352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E73F-4586-4125-8173-CEE887B782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6367-1DCC-437F-B083-722D69976E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0E38B-6637-44FC-AB6F-F9DCEB8F43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2F61-AE5D-4777-9098-D31F765EE6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E2B0-4CC5-4B10-B375-4BFC10D2B8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433E-CAF6-418B-94ED-96B0232582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ED297-8D09-4499-9700-440EB5E564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BFCE-3FE3-4D99-A9FF-3E537017F3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5FCD-66A1-4620-8A1A-C7522C7B84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747D6-9A92-4A3C-8900-2B083A4D6B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454C-8F3E-4580-B527-EA59EBB1A0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097F-8FBA-47B4-90DA-7323F76B13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728A-4E19-4F1F-B813-9C21FAEE2D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2CC6-1740-4C74-AFFD-A5D7DD6927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3E6A-7F3E-4FE0-86A1-59470E21B3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6089-A152-4040-B239-7F5CB9E712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9F81-A5AF-4B84-92D2-B57DF78DED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9F51-EF39-46C5-96F5-5FBB8A32BA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7240" y="3122640"/>
            <a:ext cx="8087040" cy="6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104760" y="1339920"/>
            <a:ext cx="8934480" cy="184788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2" descr=""/>
          <p:cNvPicPr/>
          <p:nvPr/>
        </p:nvPicPr>
        <p:blipFill>
          <a:blip r:embed="rId2"/>
          <a:stretch/>
        </p:blipFill>
        <p:spPr>
          <a:xfrm>
            <a:off x="1143000" y="3630600"/>
            <a:ext cx="6858000" cy="22575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2916360" y="1773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3203640" y="2276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5651640" y="177336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6"/>
          <a:stretch/>
        </p:blipFill>
        <p:spPr>
          <a:xfrm>
            <a:off x="5148360" y="2276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7"/>
          <a:stretch/>
        </p:blipFill>
        <p:spPr>
          <a:xfrm>
            <a:off x="8496360" y="1773360"/>
            <a:ext cx="46836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8"/>
          <a:stretch/>
        </p:blipFill>
        <p:spPr>
          <a:xfrm>
            <a:off x="8288280" y="2290680"/>
            <a:ext cx="81288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9"/>
          <a:stretch/>
        </p:blipFill>
        <p:spPr>
          <a:xfrm>
            <a:off x="2771640" y="4292640"/>
            <a:ext cx="8128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0"/>
          <a:stretch/>
        </p:blipFill>
        <p:spPr>
          <a:xfrm>
            <a:off x="2771640" y="4941720"/>
            <a:ext cx="81288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1"/>
          <a:stretch/>
        </p:blipFill>
        <p:spPr>
          <a:xfrm>
            <a:off x="5940360" y="4221000"/>
            <a:ext cx="812880" cy="4478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2"/>
          <a:stretch/>
        </p:blipFill>
        <p:spPr>
          <a:xfrm>
            <a:off x="6300720" y="4869000"/>
            <a:ext cx="8128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390600" y="1085760"/>
            <a:ext cx="83628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414360" y="1333440"/>
            <a:ext cx="8315280" cy="419112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3348000" y="142704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3"/>
          <a:stretch/>
        </p:blipFill>
        <p:spPr>
          <a:xfrm>
            <a:off x="5910120" y="2320920"/>
            <a:ext cx="505080" cy="44784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4"/>
          <a:stretch/>
        </p:blipFill>
        <p:spPr>
          <a:xfrm>
            <a:off x="6761160" y="2765520"/>
            <a:ext cx="504720" cy="44748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5"/>
          <a:stretch/>
        </p:blipFill>
        <p:spPr>
          <a:xfrm>
            <a:off x="3276720" y="39909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6"/>
          <a:stretch/>
        </p:blipFill>
        <p:spPr>
          <a:xfrm>
            <a:off x="2743200" y="4451400"/>
            <a:ext cx="197316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7"/>
          <a:stretch/>
        </p:blipFill>
        <p:spPr>
          <a:xfrm>
            <a:off x="3851280" y="4941720"/>
            <a:ext cx="1225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774720" y="905040"/>
            <a:ext cx="7753320" cy="55432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2"/>
          <a:stretch/>
        </p:blipFill>
        <p:spPr>
          <a:xfrm>
            <a:off x="5292720" y="2421000"/>
            <a:ext cx="2808360" cy="44748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1" descr=""/>
          <p:cNvPicPr/>
          <p:nvPr/>
        </p:nvPicPr>
        <p:blipFill>
          <a:blip r:embed="rId3"/>
          <a:stretch/>
        </p:blipFill>
        <p:spPr>
          <a:xfrm>
            <a:off x="5364000" y="2997360"/>
            <a:ext cx="2808360" cy="44748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4"/>
          <a:stretch/>
        </p:blipFill>
        <p:spPr>
          <a:xfrm>
            <a:off x="5221440" y="5056200"/>
            <a:ext cx="316692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5"/>
          <a:stretch/>
        </p:blipFill>
        <p:spPr>
          <a:xfrm>
            <a:off x="5292720" y="5632560"/>
            <a:ext cx="3166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865080" y="757080"/>
            <a:ext cx="7591680" cy="592488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5076720" y="1397160"/>
            <a:ext cx="273528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5076720" y="1930320"/>
            <a:ext cx="273528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4"/>
          <a:stretch/>
        </p:blipFill>
        <p:spPr>
          <a:xfrm>
            <a:off x="5003640" y="4624560"/>
            <a:ext cx="273528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5"/>
          <a:stretch/>
        </p:blipFill>
        <p:spPr>
          <a:xfrm>
            <a:off x="5003640" y="5157720"/>
            <a:ext cx="273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52280" y="1090440"/>
            <a:ext cx="8839440" cy="46771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826920" y="334152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971640" y="4581360"/>
            <a:ext cx="42498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162000" y="1081080"/>
            <a:ext cx="8820000" cy="4695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755640" y="3255840"/>
            <a:ext cx="547200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900000" y="3860640"/>
            <a:ext cx="547236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826920" y="4437000"/>
            <a:ext cx="547236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826920" y="5084640"/>
            <a:ext cx="7561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166680" y="1400040"/>
            <a:ext cx="8810640" cy="405792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900000" y="3573360"/>
            <a:ext cx="669636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900000" y="4221000"/>
            <a:ext cx="669636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900000" y="4854600"/>
            <a:ext cx="669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57320" y="879480"/>
            <a:ext cx="8829360" cy="5838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042920" y="370188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826920" y="4365720"/>
            <a:ext cx="424980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826920" y="4941720"/>
            <a:ext cx="424980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1042920" y="5589720"/>
            <a:ext cx="42498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24:0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